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1148-B38D-4747-A905-4F9748B7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EF0D-8F68-41A9-A97A-E6531904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82BA-A05D-46A2-952F-49AB1C13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9995-73DF-45C5-A6F6-26BF4082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AFDA-7C36-4EF7-8C5F-136CEB05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2B8D-2C6F-4B3F-B006-85146EE0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B9B1-D4C9-4A7B-91DC-EED806A1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7E73-8328-472D-BBF1-FC5615BF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1096-D8EA-4D3F-A155-8A213B36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466C-9E86-46D1-BA45-AD6C11DE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BDC3-5A39-4638-AEBD-FD41D50C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2B6D-08C9-4C08-84A1-620BBB28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485F-6B98-4CF6-B2D5-21EDC50B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52C9-DB3F-411E-8A19-162EC9F4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C24C-D8DB-41C1-B033-F72A5D88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F1BF-2E1F-47B5-A163-8CEFE3A2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3334-DEA3-40B8-80EC-AFB41A78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DA4E-A2FE-414F-B759-6D519A4D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CE1-62C0-4635-A4B0-8E02A40D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65F9-F763-4F1D-8507-651DFD2E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2420-25D7-41A0-A68D-7D07FBC7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625A-9A7C-4825-BAD6-E6588922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B1CF-1C6C-4E06-996F-880A80F8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5380-13DE-4EF3-923C-FF75A6EE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6235-174D-42C0-A8F3-1CA982459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F1E7-25D5-4220-82D2-86BD5A198147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9" descr="peasant massacre"/>
          <p:cNvPicPr/>
          <p:nvPr/>
        </p:nvPicPr>
        <p:blipFill>
          <a:blip r:embed="rId1"/>
          <a:stretch/>
        </p:blipFill>
        <p:spPr>
          <a:xfrm>
            <a:off x="5157720" y="907920"/>
            <a:ext cx="3705120" cy="57675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838080" y="1219320"/>
            <a:ext cx="3657600" cy="1630440"/>
          </a:xfrm>
          <a:prstGeom prst="rect">
            <a:avLst/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9360">
            <a:solidFill>
              <a:srgbClr val="ffc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llringer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/1/201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457200" y="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You have the first 5 minutes to answer the ques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24"/>
          <p:cNvSpPr/>
          <p:nvPr/>
        </p:nvSpPr>
        <p:spPr>
          <a:xfrm>
            <a:off x="304920" y="3962520"/>
            <a:ext cx="81532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happened in the Peasant’s revo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were the Protestants originally?  What does the term Protestant mean now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eace of Augsburg?  Who was involved with i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20:10:04Z</dcterms:created>
  <dc:creator>admin</dc:creator>
  <dc:description/>
  <dc:language>en-US</dc:language>
  <cp:lastModifiedBy>admin</cp:lastModifiedBy>
  <dcterms:modified xsi:type="dcterms:W3CDTF">2012-05-01T11:46:36Z</dcterms:modified>
  <cp:revision>35</cp:revision>
  <dc:subject/>
  <dc:title>Slide 1</dc:title>
</cp:coreProperties>
</file>